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BF1-88E5-45C4-B8CC-41FD946B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0A8-4B09-4C94-BDBA-89272A1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822-6269-4414-9296-97565FE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C34-5DC9-4073-9F36-CF1F1706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520-19B1-402E-93D5-B329D38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54E-DE46-49EC-99B9-009E474B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3ED-A1A9-4BFC-B7D2-52618195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C38-FA05-4E3E-A435-330CD3B1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B29-D723-4F25-BBE2-96FF1D2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167-24CA-4990-86D2-0DFB096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D7D-E06A-4C2D-90B7-6A125A9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B2D-9B19-4E73-8434-207EB06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2F71-D208-4D51-B495-E4E67EB98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st Be Sa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9880" y="838080"/>
            <a:ext cx="1371240" cy="685800"/>
            <a:chOff x="3809880" y="838080"/>
            <a:chExt cx="1371240" cy="685800"/>
          </a:xfrm>
        </p:grpSpPr>
        <p:graphicFrame>
          <p:nvGraphicFramePr>
            <p:cNvPr id="83" name=""/>
            <p:cNvGraphicFramePr/>
            <p:nvPr/>
          </p:nvGraphicFramePr>
          <p:xfrm>
            <a:off x="4194720" y="83808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4720" y="83808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3809880" y="107532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5257800" y="3048120"/>
            <a:ext cx="1079640" cy="1218960"/>
            <a:chOff x="5257800" y="3048120"/>
            <a:chExt cx="1079640" cy="1218960"/>
          </a:xfrm>
        </p:grpSpPr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5493600" y="30481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57800" y="34970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4800600" y="2057400"/>
          <a:ext cx="1060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0574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657600" y="1523880"/>
          <a:ext cx="10414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52388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very soon will come ou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y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very soon will com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ht little reindeer pull hi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eig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little reindeer pul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sle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067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indeer sle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s our wa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rry nos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1676520"/>
            <a:ext cx="1371240" cy="685800"/>
            <a:chOff x="3429000" y="1676520"/>
            <a:chExt cx="1371240" cy="685800"/>
          </a:xfrm>
        </p:grpSpPr>
        <p:graphicFrame>
          <p:nvGraphicFramePr>
            <p:cNvPr id="100" name=""/>
            <p:cNvGraphicFramePr/>
            <p:nvPr/>
          </p:nvGraphicFramePr>
          <p:xfrm>
            <a:off x="3813840" y="167652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3840" y="167652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3429000" y="191376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429000" y="2286000"/>
          <a:ext cx="914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286000"/>
                    <a:ext cx="914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2819520"/>
          <a:ext cx="83196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819520"/>
                    <a:ext cx="831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3657600" y="3429000"/>
            <a:ext cx="609480" cy="5745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800600" y="3886200"/>
            <a:ext cx="990720" cy="838080"/>
            <a:chOff x="4800600" y="3886200"/>
            <a:chExt cx="990720" cy="838080"/>
          </a:xfrm>
        </p:grpSpPr>
        <p:pic>
          <p:nvPicPr>
            <p:cNvPr id="109" name="" descr=""/>
            <p:cNvPicPr/>
            <p:nvPr/>
          </p:nvPicPr>
          <p:blipFill>
            <a:blip r:embed="rId10"/>
            <a:stretch/>
          </p:blipFill>
          <p:spPr>
            <a:xfrm>
              <a:off x="5016960" y="3886200"/>
              <a:ext cx="7743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800600" y="4194720"/>
              <a:ext cx="309960" cy="132120"/>
            </a:xfrm>
            <a:prstGeom prst="rightArrow">
              <a:avLst>
                <a:gd name="adj1" fmla="val 50000"/>
                <a:gd name="adj2" fmla="val 586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191120" y="0"/>
            <a:ext cx="1066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2832120" cy="3593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95680" y="990720"/>
            <a:ext cx="1079640" cy="1218960"/>
            <a:chOff x="4495680" y="990720"/>
            <a:chExt cx="1079640" cy="12189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73148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49568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990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45720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943600" y="990720"/>
            <a:ext cx="1079640" cy="1218960"/>
            <a:chOff x="5943600" y="990720"/>
            <a:chExt cx="1079640" cy="121896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617940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360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00600" y="1143000"/>
          <a:ext cx="10605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05320" y="1219320"/>
            <a:ext cx="12063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ars a long cap on his hea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ta wears a long cap on his h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3886200"/>
          <a:ext cx="3479760" cy="22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34797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914400"/>
          <a:ext cx="106020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14400"/>
                    <a:ext cx="1060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038480" y="1676520"/>
            <a:ext cx="708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86200" y="228600"/>
          <a:ext cx="10414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2860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5486400" y="1981080"/>
            <a:ext cx="1079640" cy="1219320"/>
            <a:chOff x="5486400" y="1981080"/>
            <a:chExt cx="1079640" cy="121932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5722200" y="1981080"/>
              <a:ext cx="843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486400" y="243036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great bi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great bi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3657600"/>
            <a:ext cx="4342680" cy="2666160"/>
            <a:chOff x="1676520" y="3657600"/>
            <a:chExt cx="4342680" cy="2666160"/>
          </a:xfrm>
        </p:grpSpPr>
        <p:graphicFrame>
          <p:nvGraphicFramePr>
            <p:cNvPr id="76" name=""/>
            <p:cNvGraphicFramePr/>
            <p:nvPr/>
          </p:nvGraphicFramePr>
          <p:xfrm>
            <a:off x="2895840" y="3657600"/>
            <a:ext cx="3123360" cy="266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840" y="3657600"/>
                      <a:ext cx="3123360" cy="266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1676520" y="4580280"/>
              <a:ext cx="2133720" cy="614520"/>
            </a:xfrm>
            <a:prstGeom prst="rightArrow">
              <a:avLst>
                <a:gd name="adj1" fmla="val 50000"/>
                <a:gd name="adj2" fmla="val 8680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 ho?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, h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41:12Z</dcterms:created>
  <dc:creator>Beth Spreen</dc:creator>
  <dc:description/>
  <dc:language>en-US</dc:language>
  <cp:lastModifiedBy>rmosser</cp:lastModifiedBy>
  <dcterms:modified xsi:type="dcterms:W3CDTF">2009-11-07T20:24:42Z</dcterms:modified>
  <cp:revision>36</cp:revision>
  <dc:subject/>
  <dc:title>Must Be Santa</dc:title>
</cp:coreProperties>
</file>